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443-889F-44D3-B11F-3432D2FF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D6F-7A17-4352-A746-094268C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BEA-6055-4221-99F2-0FCF9CA3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02B-EE4C-4936-9BE3-2239002E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F39-FBBE-40E1-85B0-4EA41A97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0DC-FFDA-4910-9D36-FFE3CE4C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D91-AA34-4548-8C4F-CF6F44C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E74-B4D4-4069-826A-B9E4EEE6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F7D-1C9E-4EF6-90E7-D0CE8FC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E29-4517-45C1-A2DA-624F318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C3A-7AD1-49AE-A42A-BC25B83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4B4-CB8C-430E-AFE6-08654DF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EFC5-3ACE-4777-8747-50A3D242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ai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53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457200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was never a good war or a ba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a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"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24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would end if the dead could return." Stanley Baldw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14316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 peace sons bury fathers, but war violates the order of nature, and fathers bury sons." - Hero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5486400" cy="2840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f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 ra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ishes to have a prolonged and indefinite period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rosperity, they have only got to behave in a peaceful and helpful way toward one another."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nston Church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152424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 prefer the most unfair peace to the most righteous war.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06520" cy="248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ome to see that peace is not merely a distant goal that we seek, but a means by which we arrive at that goal. We must pursue peaceful ends through peaceful mean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rtin Luther King, J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360" y="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360" y="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19796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400800" y="4876920"/>
            <a:ext cx="1898640" cy="142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13:33Z</dcterms:created>
  <dc:creator>Vanessa Collier</dc:creator>
  <dc:description/>
  <dc:language>en-US</dc:language>
  <cp:lastModifiedBy>Joni George</cp:lastModifiedBy>
  <dcterms:modified xsi:type="dcterms:W3CDTF">2010-04-13T21:03:39Z</dcterms:modified>
  <cp:revision>8</cp:revision>
  <dc:subject/>
  <dc:title>Isaiah</dc:title>
</cp:coreProperties>
</file>